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3C0-7F37-495D-A1C6-C45B217D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4D3-36A1-4201-8A44-581355E3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0BA-89BA-445F-9DE4-8E87F518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209-BE92-46E0-A1B7-7155404A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CC0-8E84-4ED8-91EC-EA2800B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DAC2-3C77-424A-BB1A-9EDAE09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DD9-BE4A-488E-9AD7-8F451F48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DCA-2582-44F1-9C22-6DEC007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992C-F112-4255-BE9A-9D2BEE3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58C-BF3A-4F47-954E-0DD6A41B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89B-95AB-4F31-8442-97ECAEE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951-155A-4E21-9901-EED593A4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7A6-B8ED-4466-9834-64216ED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BD8B-AED6-4CD5-947D-1565D8A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3AA-CC05-455D-8052-3C821B64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A6A5-F035-4626-99F8-77F849A5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CCB5-CA08-4A99-AC37-8F8B6DDC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69C5-AC2D-4B55-AC93-61D91468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9A17-34CC-4A1F-AD5A-939A48C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3361-0B75-47D1-8477-ACCE9F6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4E9E-A1A0-415F-8F68-2A235EEC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6350-2A90-4EFF-A54B-882479C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B0F-5DCC-496C-82AB-A725A91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2309-0C63-4E9D-8616-813EB607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6CFF-55BF-4AE6-8A03-2FCF84B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C494-D0E8-47EE-8E98-6BA9EAA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055B-1B97-408B-9A13-A174780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6DFB-66A5-475E-B4B3-39C7F5E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9612-1FB9-4C72-8D2F-CDAF7A25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3465-0B29-48AF-8432-CE6CE342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B824-37A4-4576-8E95-825C344B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FD7E-761A-421C-A1DA-C6A49181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A0B5-74B6-4B6C-ACAF-77308CE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5D0-16E0-4F81-AF1C-BB11675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F222-8C2B-4B56-A39A-63BD40B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97BB-BD92-478B-B927-EBB780D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A99D-B5F9-4B76-BE0F-3F169D7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9DBC-73DE-4AEA-8878-1091137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FB67-16F5-414C-8315-EF28FE2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797A-F1F2-44AA-A22B-ED532A4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CBFA-D854-4390-924B-A0C7BFC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71E7-87CD-493C-8BEE-5161A532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B05B-8AFD-4766-8F07-45514AE0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1E9-532D-4C44-9448-374BD9C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C45-510D-47D6-AE93-B8884379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055-8E36-4E7A-B8E1-608245B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94B-0FA0-4E29-AB3E-C012246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EB6-5936-48CA-B251-8960547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ABE-36E0-45E5-972D-D9A42E10A3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82B-3284-4F2F-8702-E40BE71B28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C758-B4DB-4D27-B5C3-7AA176AAE4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BB6-2818-48EF-9A54-D89D991175D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589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 помощью координат нарисуйте фигур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3); (0; 3); (-3; 2); (-5;2); (-7;4); (-8;3); (-7;1); (-8;-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-7;-2); (-5;0); (-1;-2); (0;-4); (2;-4); (3;-2); (5;-2); (7;0); (5;2); (3;3); (2;4); (-3;4); (-4;2); глаз(5;0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8" descr="BD13772_"/>
          <p:cNvPicPr/>
          <p:nvPr/>
        </p:nvPicPr>
        <p:blipFill>
          <a:blip r:embed="rId1"/>
          <a:stretch/>
        </p:blipFill>
        <p:spPr>
          <a:xfrm>
            <a:off x="214200" y="428616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Рисунок12"/>
          <p:cNvPicPr/>
          <p:nvPr/>
        </p:nvPicPr>
        <p:blipFill>
          <a:blip r:embed="rId2"/>
          <a:stretch/>
        </p:blipFill>
        <p:spPr>
          <a:xfrm>
            <a:off x="2857680" y="3286080"/>
            <a:ext cx="5638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0); (1; 2); (-1;2); (3;5); (1;7); (-3;6); (-5;7); (-3;4); (-6;3); (-3;3);    (-5;2); (-5;-2); (-2;-3); (-4;-4); (1;-4); (3;-3); (6;1); (3;0); глаз (-1;5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2" descr="J0213513"/>
          <p:cNvPicPr/>
          <p:nvPr/>
        </p:nvPicPr>
        <p:blipFill>
          <a:blip r:embed="rId1"/>
          <a:stretch/>
        </p:blipFill>
        <p:spPr>
          <a:xfrm>
            <a:off x="642960" y="521496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Рисунок13"/>
          <p:cNvPicPr/>
          <p:nvPr/>
        </p:nvPicPr>
        <p:blipFill>
          <a:blip r:embed="rId2"/>
          <a:stretch/>
        </p:blipFill>
        <p:spPr>
          <a:xfrm>
            <a:off x="2928960" y="2214720"/>
            <a:ext cx="55627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ai</cp:lastModifiedBy>
  <dcterms:modified xsi:type="dcterms:W3CDTF">2011-06-01T13:35:50Z</dcterms:modified>
  <cp:revision>2</cp:revision>
  <dc:subject/>
  <dc:title>Фигуры по координатам</dc:title>
</cp:coreProperties>
</file>